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BB4-F7DA-43F1-94C1-0C940FD8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92E-0BD0-4ECE-9DCF-75723C1E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299-1AA5-45DF-BAA8-341BFDBD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F40-6787-4B4F-92E2-4C330BBE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8B2-3142-4B59-A323-D34AC99C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186-B3C0-4028-B858-1AD6928B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D47-C0E2-4EEF-BE99-AC6650E2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0AA-6F0A-482A-BF7F-BF47746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C37-8492-43A6-AA66-DECF33E9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64A-F925-4F9D-8B50-F7DCA6B5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37A-ED8F-45D1-A3A9-857EA6B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960-DA0A-4541-A25E-601CE90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FB527-24FB-4C72-B139-AC5A4F26BF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E668A-4984-471B-BCDF-7299E7BE5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irMdITC TT-Medium"/>
                <a:ea typeface="BlairMdITC TT-Medium"/>
              </a:rPr>
              <a:t>Rapid Eye Movement (REM) Slee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Marker Felt"/>
                <a:ea typeface="Marker Felt"/>
              </a:rPr>
              <a:t>By Jane Woo, Sylvia Jung, and Jinsoo Ch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  <a:ea typeface="Bauhaus 93"/>
              </a:rPr>
              <a:t>What is R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7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pple Casual"/>
                <a:ea typeface="Apple Casual"/>
              </a:rPr>
              <a:t>Rapid Eye Mov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ple Casual"/>
                <a:ea typeface="Apple Casual"/>
              </a:rPr>
              <a:t>Eyeballs twitch every half min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pple Casual"/>
                <a:ea typeface="Apple Casual"/>
              </a:rPr>
              <a:t>Starts after about an hour of falling asl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pple Casual"/>
                <a:ea typeface="Apple Casual"/>
              </a:rPr>
              <a:t>Not deep sl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pple Casual"/>
                <a:ea typeface="Apple Casual"/>
              </a:rPr>
              <a:t>Dreams happen in this st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pple Casual"/>
                <a:ea typeface="Apple Casual"/>
              </a:rPr>
              <a:t>Genitals are aroused during this st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pple Casual"/>
                <a:ea typeface="Apple Casual"/>
              </a:rPr>
              <a:t>Your body blocks messages to the brain so you can’t move and you cannot wake up easi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ple Casual"/>
                <a:ea typeface="Apple Casual"/>
              </a:rPr>
              <a:t>Essentially paraly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ple Casual"/>
                <a:ea typeface="Apple Casual"/>
              </a:rPr>
              <a:t>Muscles are relax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ple Casual"/>
                <a:ea typeface="Apple Casu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pple Casual"/>
                <a:ea typeface="Apple Casual"/>
              </a:rPr>
              <a:t>Paradoxical” sl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  <a:ea typeface="Bauhaus 93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pple Casual"/>
                <a:ea typeface="Apple Casual"/>
              </a:rPr>
              <a:t>25% of sleep is spent R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pple Casual"/>
                <a:ea typeface="Apple Casual"/>
              </a:rPr>
              <a:t>50% of baby sleep is in R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pple Casual"/>
                <a:ea typeface="Apple Casual"/>
              </a:rPr>
              <a:t>It serves to preserve memory, integrate new experiences into your memory, and “to strip new memories of whatever emotional charge they initially carried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pple Casual"/>
                <a:ea typeface="Apple Casual"/>
              </a:rPr>
              <a:t>Dreaming and intelligence is correl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pple Casual"/>
                <a:ea typeface="Apple Casual"/>
              </a:rPr>
              <a:t>Handicapped people do not dream as mu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pple Casual"/>
                <a:ea typeface="Apple Casual"/>
              </a:rPr>
              <a:t>People who are depressed go into REM stage faster and stay in it longer; also, REM is more intens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3:33:02Z</dcterms:created>
  <dc:creator>Jane Woo</dc:creator>
  <dc:description/>
  <dc:language>en-US</dc:language>
  <cp:lastModifiedBy>Jane Woo</cp:lastModifiedBy>
  <dcterms:modified xsi:type="dcterms:W3CDTF">2008-10-06T04:03:19Z</dcterms:modified>
  <cp:revision>5</cp:revision>
  <dc:subject/>
  <dc:title>Rapid Eye Movement (REM) Sleep</dc:title>
</cp:coreProperties>
</file>